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8416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0240" y="4588200"/>
            <a:ext cx="8416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30240" y="458820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43400" y="458820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6040" y="21013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2200" y="21013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0240" y="458820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6040" y="458820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2200" y="458820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30240" y="2101320"/>
            <a:ext cx="8416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8416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30312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30240" y="458820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43400" y="458820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0240" y="4588200"/>
            <a:ext cx="8416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3960" cy="7559640"/>
          </a:xfrm>
          <a:custGeom>
            <a:avLst/>
            <a:gdLst>
              <a:gd name="textAreaLeft" fmla="*/ 360 w 453960"/>
              <a:gd name="textAreaRight" fmla="*/ 453600 w 4539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59429">
                <a:moveTo>
                  <a:pt x="75" y="0"/>
                </a:moveTo>
                <a:arcTo wR="75" hR="75" stAng="16200000" swAng="-5400000"/>
                <a:lnTo>
                  <a:pt x="0" y="359354"/>
                </a:lnTo>
                <a:arcTo wR="75" hR="75" stAng="10800000" swAng="-5400000"/>
                <a:lnTo>
                  <a:pt x="21525" y="359429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30240" y="2101320"/>
            <a:ext cx="8416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Word processing e Word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Raffaele Miele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rafmiele@unina.it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Stile del caratter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sistono tre stili di carattere principal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Grass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orsivo (o Italic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ottolinea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ottenibili cliccando su G, C o 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Gli stili si possono anche combinare insieme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Grassetto sottolineato, Grassetto corsivo, Corsivo sottolineato e Grassetto corsivo sottolinea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’ possibile anche decidere il tipo di sottolineatur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sistono svariati tipi di font, i più famosi son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imes New Roma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Ar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our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Garamon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Verdan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Monotype Corsiv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Un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Grandezz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8200" y="1598760"/>
            <a:ext cx="8418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La grandezza (media) di un carattere è espressa in punti (1/72 di pollice), pari a circa 0.35 m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97120" y="3278160"/>
            <a:ext cx="36403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4 pu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 pu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8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6 pu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48 pu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60 pu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Paragrafi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Un paragrafo è una parte di testo compresa tra due “ritorno a capo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Il “ritorno a capo” è ottenuto con Invio e in Word indica la fine del paragrafo corrente e l’inizio di un nuovo paragraf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Il “ritorno a capo” viene trattato come un normale carattere (può essere inserito o cancellat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Un paragrafo può essere composto da una o più linee: la suddivisione in linee di un paragrafo è decisa automaticamente da Word in base allo spazio restan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Formattazione del paragrafo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 vedere dove iniziano i paragrafi selezionare dal menù Strumenti|Opzioni| Visualizza l’opzione Caratteri non stampabili|Segni di Paragrafo. La fine di ogni paragrafo verrà così indicata con il simbolo ¶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gni modifica agli attributi della formattazione agis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ui paragrafi selezionati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ppure, sul paragrafo corrent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Formattazione del paragrafo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4413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Ogni paragrafo ha i seguenti attribu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allineamento (a sinistra, a destra, centrato, giustificato): selezionabile cliccando su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rientro sinistro e destro, prima riga e sporgent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interlinea (singola, 1,5 righe, doppia, esatta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spaziatura prima e dopo il paragraf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bord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80240" y="3606840"/>
            <a:ext cx="2666880" cy="706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67440" y="4040280"/>
            <a:ext cx="1323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Pagin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 modo normale la suddivisione di un documento in pagine è automatica: quando le righe superano la dimensione della pagina, viene iniziata una nuova pagin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ò con Inserisci|Interruzione|di pagina è possibile forzare Word a continuare a pagina nuov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on File|Imposta pagina è possibile formattare le pagine dell’intero documento indicando dimensioni del foglio, margini e orientamento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Formattazione della pagin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1905120"/>
            <a:ext cx="2895480" cy="3809880"/>
          </a:xfrm>
          <a:custGeom>
            <a:avLst/>
            <a:gdLst>
              <a:gd name="textAreaLeft" fmla="*/ 360 w 2895480"/>
              <a:gd name="textAreaRight" fmla="*/ 2895120 w 2895480"/>
              <a:gd name="textAreaTop" fmla="*/ 360 h 3809880"/>
              <a:gd name="textAreaBottom" fmla="*/ 3809520 h 3809880"/>
            </a:gdLst>
            <a:ahLst/>
            <a:rect l="textAreaLeft" t="textAreaTop" r="textAreaRight" b="textAreaBottom"/>
            <a:pathLst>
              <a:path w="21600" h="28420">
                <a:moveTo>
                  <a:pt x="11" y="0"/>
                </a:moveTo>
                <a:arcTo wR="11" hR="11" stAng="16200000" swAng="-5400000"/>
                <a:lnTo>
                  <a:pt x="0" y="28409"/>
                </a:lnTo>
                <a:arcTo wR="11" hR="11" stAng="10800000" swAng="-5400000"/>
                <a:lnTo>
                  <a:pt x="21589" y="28420"/>
                </a:lnTo>
                <a:arcTo wR="11" hR="11" stAng="5400000" swAng="-5400000"/>
                <a:lnTo>
                  <a:pt x="21600" y="11"/>
                </a:lnTo>
                <a:arcTo wR="11" hR="11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666880"/>
            <a:ext cx="1600200" cy="2286000"/>
          </a:xfrm>
          <a:custGeom>
            <a:avLst/>
            <a:gdLst>
              <a:gd name="textAreaLeft" fmla="*/ 360 w 1600200"/>
              <a:gd name="textAreaRight" fmla="*/ 1599840 w 16002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30855">
                <a:moveTo>
                  <a:pt x="21" y="0"/>
                </a:moveTo>
                <a:arcTo wR="21" hR="21" stAng="16200000" swAng="-5400000"/>
                <a:lnTo>
                  <a:pt x="0" y="30834"/>
                </a:lnTo>
                <a:arcTo wR="21" hR="21" stAng="10800000" swAng="-5400000"/>
                <a:lnTo>
                  <a:pt x="21579" y="30855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1905120"/>
            <a:ext cx="1440" cy="3809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6095880"/>
            <a:ext cx="2895480" cy="1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4419720"/>
            <a:ext cx="609480" cy="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886200"/>
            <a:ext cx="685800" cy="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14800" y="4951080"/>
            <a:ext cx="1440" cy="765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1905120"/>
            <a:ext cx="180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2767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ezza de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gl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6248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hezza  del fog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05520" y="2092320"/>
            <a:ext cx="213372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i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i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en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zzo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Numerazione, intestazione e piè di pagina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Da vari menù è possibile anche definire il bordo e uno sfondo per l’intera pagina, una riga di intestazione e una riga di piè di pagina che si ripetono uguali in tutte le pagin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ulla riga di piè di pagina (o di intestazione) è possibile anche inserire la numerazione delle pagine con il comando Inserisci|Numeri di pagin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Controllo ortografico e grammatical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E’ possibile far effettuare il controllo ortografico cliccando su Strumenti|Controllo ortografi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Verrà quindi controllata l’ortografia di tutte le parole del documento, segnalando eventuali parole scritte in modo errato e permettendone la correzion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E’ anche possibile far effettuare un controllo sulla correttezza delle forme grammaticali utilizzate ed avere un dizionario dei sinonimi (Thesaurus) in linea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Introduzion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29880" y="211428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Un word processor è un programma per la composizione e la gestione di testi come lettere, documenti, articoli, tesi, libri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Un word processor si distingue da un editor perché è in grado di trattare la formattazione e l’impaginazione del document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Sillabazion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Normalmente Word va a capo senza spezzare le parol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E’ possibile però settare la sillabazione automatica con Strumenti|Lingua|Sillabazion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osì Word sarà in grado di spezzare una parola utilizzando le regole standard italiane di sillabazion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 un corretto funzionamento deve essere impostata la lingua utilizzat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Stampa ed anteprima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L’anteprima di stampa permette di vedere a video come verrà stampato il documento, visualizzando anche la posizione del testo stampato all’interno del foglio          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ra le opzioni di stampa più importanti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ipo di stampan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Parte del documento da stampare (tutto, pagina corrente, alcune pagine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Numero di copi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Tabell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Una tabella è uno schema rettangolare suddiviso in righe e colon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Una tabella si inserisce con il comando Tabella| Inserisci e all’inizio si deve indicare il numero iniziale di righe e di colon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Gestione delle tabell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E’ possibile, attraverso l’uso del menù Tabella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ggiungere e togliere righe o colonn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mpostare l’altezza delle righe e la larghezza delle colonn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efinire un bordo e uno sfondo per le cell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abilire allineamento verticale e orizzontale del contenuto delle cell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onvertire un testo in tabell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Elenchi puntati e numerati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0240" y="2101680"/>
            <a:ext cx="4108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Elenco punta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ipp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lut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aperino</a:t>
            </a: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Topolin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Qu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Qu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Qu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43040" y="2101680"/>
            <a:ext cx="410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Elenco numera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ipp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lut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aperino</a:t>
            </a: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Topolin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Qu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Qu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Qu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85880" y="145584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5080" y="1487520"/>
            <a:ext cx="53352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Stile elenco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n Formato|Elenchi è possibile variare il punto degli elenchi puntati mettendo un altro simbolo al posto del pallino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E' anche  possibile indicare modi alternativi per numerare gli elementi, ad esempio con lettere consecutive o numeri romani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Elenchi innestati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9880" y="2101320"/>
            <a:ext cx="84186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emendo il tasto TAB è possibile innestare un elenco puntato (o numerato) all'interno di un altro. Con SHIFT + TAB ritorno al livello precedente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Es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imo livell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(premo tab) Secondo livel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(premo shift + tab) Di nuovo primo livell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Note a piè di pagina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E’ possibile inserire note a fondo pagina con Inserisci|Note che verranno trattate separatamente dal resto del tes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La numerazione delle note può essere automatica o manua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Immagini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’ possibile inserire delle immagini attraverso il comando Inserisci - Immag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L’immagine può esser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idimensionata (selezionandola e trascinando sui bordi dell'immagin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postat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uotat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Classificazion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 programmi più moderni adottano la tecnica WYSIWYG (What You See Is What You Get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L’utente lavora su una rappresentazione grafica del documento simile a come verrà stampato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 più famosi sono MS Word, Writer e Word Perfec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Questo approccio semplifica notevolmente l’utilizzo dei word processor perdendo però parte della versatilità dell’approccio precedent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Gestione dei fil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Ogni documento viene memorizzato in un file, con estensione .doc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Le operazioni su file (documenti) possibili son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pertura di un documento già esisten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reazione di un nuovo documen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alvataggio del documento corren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hiusura di un documen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Funzioni di editing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Word ha un cursore che rappresenta il punto in cui si sta scrivendo, che può essere da tastiera o con il mous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ll’inizio Word è in modalità inserimento: tutti i caratteri digitati sono inseriti all’interno del documento sulla posizione corrente spostando gli altri già presenti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e si preme INS si passa in modalità sovrascrittura: i caratteri digitati vanno a sostituire i caratteri già presenti; ripremendo INS si torna in modalità inserimento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Taglia/Copia/Incolla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E’ possibile tramite l’uso di una memoria temporanea, detta clipboard, poter effettuare operazioni di editing avanza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Nella clipboard può essere memorizzata una singola porzione di testo, un’immagine o un oggetto, che può essere riutilizzata sia sulla stessa applicazione che su altr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Le operazioni di copia e taglia inseriscono un nuovo contenuto sulla clipboard, perdendo il vecchio conten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Le nuove applicazioni di Office 2000 permettono di memorizzare fino a 12 contenuti diversi (ma non Office 97 o OpenOffice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Trova e Sostituisci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on l’opzione Modifica|Trova si può cercare una parola, una frase o in genere una sequenza di caratteri all’interno del documento: il cursore verrà posizionato all’altezza della prima occorrenz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on l’opzione Modifica|Sostituisci si può cambiare tutte o alcune occorrenze di una parola (in generale una sequenza di caratteri) con un’altra, ad esempio computer con elaborator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Formattazion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Esistono tre tipi di formattazione: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ul caratter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ul paragraf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a livello di pagina, che si applica di solito all’intero document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Esistono, oltre ai comandi diretti, anche tre menù appositi: Formato|Carattere, Formato|Paragrafo e File|Imposta Pagin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gothic"/>
              </a:rPr>
              <a:t>Formattazione del carattere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gni singolo carattere ha i seguenti attributi che possono essere definiti o modifica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ti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ipo (font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grandezz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effetti (maiuscoletto, pedice, apice, ..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lo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fond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gni modifica agisc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ul testo attualmente seleziona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37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ppure, su tutti i caratteri digitati in segui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